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14818-54FC-42BD-BE63-28B540BD1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4"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5"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9B469-CF51-4AA6-AC33-A245BCEF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7"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8"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9"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0"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F1B3B-454F-44C7-92B5-2676E64AA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42"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3"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4"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5"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6"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7"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7C401-1D69-43BE-B3CA-AEE78D79A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F7B5F-D689-4D64-941E-920A1108C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61"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DB647-736A-4142-BF48-595D700F7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63"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69BB4-F6A7-4518-8505-686127D6D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65"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6"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31E05-4EA3-4495-A8E6-D5A497F88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57A12-23A1-4586-A382-31E34BEB3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82329-52F1-415A-8C7C-7B8D88022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7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1"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2"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429D9-B7BB-4FB3-9D6B-4030F8E8D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4D25-D4C0-4036-B649-6B13FF90C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74"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5"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6"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272CB-9A12-4B81-AF3B-7265AC69A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7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9"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0"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3A503-66E8-49D7-9DE0-B89C18C24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82"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3"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BCE01-1B94-41E1-A5E8-1C45573E4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85"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6"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7"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8"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BA5C5-87EC-4C65-81D5-0069B7FB7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90"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1"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2"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3"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4"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5"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A4F97-EC32-4216-A783-9B5E5AA74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656087-4877-435F-B491-D3E763A02F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16FF7-0D12-4AD3-90B1-CA28ED90E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B5E80-EE6F-470D-885E-C179B61B3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00447-387C-4455-873A-761D442DF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0AFAA-9512-47C8-9340-153F272272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5"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92C05-6C9D-407A-A4A2-5CB3E13E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6F5EF-08E6-476D-806D-91B70D867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ACA7B-7F83-4154-8E75-AF8C18F0A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BB1FF-874A-434F-8109-796317261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80768-5F71-4249-AD1F-738725487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5CB72-6AD3-484F-B577-F76C6E8AD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8901A3-99F2-4769-B5CC-C7FB09FAE5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D79E84-EE42-4A37-962D-716E0F3C0D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2DE43C-BB34-4873-8A78-6A568902C9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5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FA901-8ED2-4DD3-BBC4-C0C24E323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6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5B5A8-29EB-4D7A-B464-161E42D44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7"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A617-3318-4B8C-AFFD-695458A76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6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6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DB0E1D-42CE-4A8E-BDDF-32BE220EA1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D5247-61EC-41C5-B8CF-52CB0B544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77C6E-B0F9-49FE-9AF9-E4882700F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6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6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CECF8-E5CD-46E4-ADCB-81BD2A194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7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54B79-72D9-4FC8-802D-8BE5B9A9C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7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44475-23F2-4FFD-ADC7-77EEFB35D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8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FE10E-858C-412C-8DF8-7D84B478F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8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BF7B3C-D76B-4A12-8D0A-19FAFD819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8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0DC877-8A1A-46A0-83EF-9397AC37C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22FA42-44C5-41D9-9A8F-908ABBB816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673D8-B197-40E5-A7C8-2B58F5CF4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B1F47-D6F3-4EBF-9B19-DF1522F640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F4E1D-14D7-4086-94D9-BFDEE8F75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CC03E1-4E61-4101-9576-DDFA3E2F1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B8953-1FF7-451A-B6DB-35B6A95D2B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BE91B-D638-4840-B328-61D097745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62C7A-E267-430B-837D-2E6565193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9F482-BCB9-4394-9393-24C0718C0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F16C6-FD2D-44A7-9DA5-FE49B38CD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263DFE-7A9E-4DB0-B06F-A0D221AEC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28BAC2-76CE-43C4-87D3-EC0ACA616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45F37-BE53-4F42-ABC1-9CA1080F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42C56F-30B3-44D4-B976-1136D16AB2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2"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135E-AC26-4CA0-ACF6-6C44632D2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6"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8"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876A7-717C-4B7A-9588-D654CDE6C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1"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2"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13CA-4CDF-4D66-B708-ED4C34ECE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0840" y="0"/>
            <a:ext cx="2436840" cy="6858000"/>
            <a:chOff x="150840" y="0"/>
            <a:chExt cx="2436840" cy="6858000"/>
          </a:xfrm>
        </p:grpSpPr>
        <p:sp>
          <p:nvSpPr>
            <p:cNvPr id="1"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2"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3"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4"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6"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8"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9" name="PlaceHolder 3"/>
          <p:cNvSpPr>
            <a:spLocks noGrp="1"/>
          </p:cNvSpPr>
          <p:nvPr>
            <p:ph type="dt" idx="1"/>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11" name="PlaceHolder 5"/>
          <p:cNvSpPr>
            <a:spLocks noGrp="1"/>
          </p:cNvSpPr>
          <p:nvPr>
            <p:ph type="sldNum" idx="3"/>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922B4-CE4E-4839-A4DF-AEB53F10869E}"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8"/>
          <p:cNvGrpSpPr/>
          <p:nvPr/>
        </p:nvGrpSpPr>
        <p:grpSpPr>
          <a:xfrm>
            <a:off x="546120" y="-4680"/>
            <a:ext cx="5014800" cy="6862680"/>
            <a:chOff x="546120" y="-4680"/>
            <a:chExt cx="5014800" cy="6862680"/>
          </a:xfrm>
        </p:grpSpPr>
        <p:sp>
          <p:nvSpPr>
            <p:cNvPr id="49" name="Freeform 6"/>
            <p:cNvSpPr/>
            <p:nvPr/>
          </p:nvSpPr>
          <p:spPr>
            <a:xfrm>
              <a:off x="984240" y="-4680"/>
              <a:ext cx="1063440" cy="2782800"/>
            </a:xfrm>
            <a:custGeom>
              <a:avLst/>
              <a:gdLst>
                <a:gd name="textAreaLeft" fmla="*/ 0 w 1063440"/>
                <a:gd name="textAreaRight" fmla="*/ 1063800 w 1063440"/>
                <a:gd name="textAreaTop" fmla="*/ 0 h 2782800"/>
                <a:gd name="textAreaBottom" fmla="*/ 2783160 h 2782800"/>
              </a:gdLst>
              <a:ahLst/>
              <a:rect l="textAreaLeft" t="textAreaTop" r="textAreaRight" b="textAreaBottom"/>
              <a:pathLst>
                <a:path w="670" h="1753">
                  <a:moveTo>
                    <a:pt x="0" y="1696"/>
                  </a:moveTo>
                  <a:lnTo>
                    <a:pt x="225" y="1753"/>
                  </a:lnTo>
                  <a:lnTo>
                    <a:pt x="670" y="0"/>
                  </a:lnTo>
                  <a:lnTo>
                    <a:pt x="430" y="0"/>
                  </a:lnTo>
                  <a:lnTo>
                    <a:pt x="0" y="16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0" name="Freeform 7"/>
            <p:cNvSpPr/>
            <p:nvPr/>
          </p:nvSpPr>
          <p:spPr>
            <a:xfrm>
              <a:off x="546120" y="-4680"/>
              <a:ext cx="1035000" cy="2673360"/>
            </a:xfrm>
            <a:custGeom>
              <a:avLst/>
              <a:gdLst/>
              <a:ahLst/>
              <a:rect l="l" t="t" r="r" b="b"/>
              <a:pathLst>
                <a:path w="652" h="1684">
                  <a:moveTo>
                    <a:pt x="225" y="1684"/>
                  </a:moveTo>
                  <a:lnTo>
                    <a:pt x="652" y="0"/>
                  </a:lnTo>
                  <a:lnTo>
                    <a:pt x="411" y="0"/>
                  </a:lnTo>
                  <a:lnTo>
                    <a:pt x="0" y="1627"/>
                  </a:lnTo>
                  <a:lnTo>
                    <a:pt x="219" y="1681"/>
                  </a:lnTo>
                  <a:lnTo>
                    <a:pt x="225" y="1684"/>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1" name="Freeform 9"/>
            <p:cNvSpPr/>
            <p:nvPr/>
          </p:nvSpPr>
          <p:spPr>
            <a:xfrm>
              <a:off x="546120" y="2583000"/>
              <a:ext cx="2693880" cy="4275000"/>
            </a:xfrm>
            <a:custGeom>
              <a:avLst/>
              <a:gdLst/>
              <a:ahLst/>
              <a:rect l="l" t="t" r="r" b="b"/>
              <a:pathLst>
                <a:path w="1697" h="2693">
                  <a:moveTo>
                    <a:pt x="0" y="0"/>
                  </a:moveTo>
                  <a:lnTo>
                    <a:pt x="1622" y="2693"/>
                  </a:lnTo>
                  <a:lnTo>
                    <a:pt x="1697" y="2693"/>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2" name="Freeform 10"/>
            <p:cNvSpPr/>
            <p:nvPr/>
          </p:nvSpPr>
          <p:spPr>
            <a:xfrm>
              <a:off x="988920" y="2692440"/>
              <a:ext cx="3332160" cy="4165560"/>
            </a:xfrm>
            <a:custGeom>
              <a:avLst/>
              <a:gdLst/>
              <a:ahLst/>
              <a:rect l="l" t="t" r="r" b="b"/>
              <a:pathLst>
                <a:path w="2099" h="2624">
                  <a:moveTo>
                    <a:pt x="2099" y="2624"/>
                  </a:moveTo>
                  <a:lnTo>
                    <a:pt x="0" y="0"/>
                  </a:lnTo>
                  <a:lnTo>
                    <a:pt x="2021" y="2624"/>
                  </a:lnTo>
                  <a:lnTo>
                    <a:pt x="2099" y="262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3" name="Freeform 11"/>
            <p:cNvSpPr/>
            <p:nvPr/>
          </p:nvSpPr>
          <p:spPr>
            <a:xfrm>
              <a:off x="984240" y="2687760"/>
              <a:ext cx="4576680" cy="4170240"/>
            </a:xfrm>
            <a:custGeom>
              <a:avLst/>
              <a:gdLst/>
              <a:ahLst/>
              <a:rect l="l" t="t" r="r" b="b"/>
              <a:pathLst>
                <a:path w="2883" h="2627">
                  <a:moveTo>
                    <a:pt x="0" y="0"/>
                  </a:moveTo>
                  <a:lnTo>
                    <a:pt x="3" y="3"/>
                  </a:lnTo>
                  <a:lnTo>
                    <a:pt x="2102" y="2627"/>
                  </a:lnTo>
                  <a:lnTo>
                    <a:pt x="2883" y="2627"/>
                  </a:lnTo>
                  <a:lnTo>
                    <a:pt x="225" y="57"/>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4" name="Freeform 12"/>
            <p:cNvSpPr/>
            <p:nvPr/>
          </p:nvSpPr>
          <p:spPr>
            <a:xfrm>
              <a:off x="546120" y="2577960"/>
              <a:ext cx="3584520" cy="4280040"/>
            </a:xfrm>
            <a:custGeom>
              <a:avLst/>
              <a:gdLst/>
              <a:ahLst/>
              <a:rect l="l" t="t" r="r" b="b"/>
              <a:pathLst>
                <a:path w="2258" h="2696">
                  <a:moveTo>
                    <a:pt x="2258" y="2696"/>
                  </a:moveTo>
                  <a:lnTo>
                    <a:pt x="264" y="111"/>
                  </a:lnTo>
                  <a:lnTo>
                    <a:pt x="228" y="60"/>
                  </a:lnTo>
                  <a:lnTo>
                    <a:pt x="225" y="57"/>
                  </a:lnTo>
                  <a:lnTo>
                    <a:pt x="0" y="0"/>
                  </a:lnTo>
                  <a:lnTo>
                    <a:pt x="0" y="3"/>
                  </a:lnTo>
                  <a:lnTo>
                    <a:pt x="1697" y="2696"/>
                  </a:lnTo>
                  <a:lnTo>
                    <a:pt x="2258" y="2696"/>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5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56"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57" name="PlaceHolder 3"/>
          <p:cNvSpPr>
            <a:spLocks noGrp="1"/>
          </p:cNvSpPr>
          <p:nvPr>
            <p:ph type="dt" idx="4"/>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5332320" y="5882760"/>
            <a:ext cx="43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59" name="PlaceHolder 5"/>
          <p:cNvSpPr>
            <a:spLocks noGrp="1"/>
          </p:cNvSpPr>
          <p:nvPr>
            <p:ph type="sldNum" idx="6"/>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582CD-7C00-4196-AC6A-B6CD4B476CEB}"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 name="Group 6"/>
          <p:cNvGrpSpPr/>
          <p:nvPr/>
        </p:nvGrpSpPr>
        <p:grpSpPr>
          <a:xfrm>
            <a:off x="150840" y="0"/>
            <a:ext cx="2436840" cy="6858000"/>
            <a:chOff x="150840" y="0"/>
            <a:chExt cx="2436840" cy="6858000"/>
          </a:xfrm>
        </p:grpSpPr>
        <p:sp>
          <p:nvSpPr>
            <p:cNvPr id="97"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98"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99"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00"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01"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02"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1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1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105" name="PlaceHolder 3"/>
          <p:cNvSpPr>
            <a:spLocks noGrp="1"/>
          </p:cNvSpPr>
          <p:nvPr>
            <p:ph type="dt" idx="7"/>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107" name="PlaceHolder 5"/>
          <p:cNvSpPr>
            <a:spLocks noGrp="1"/>
          </p:cNvSpPr>
          <p:nvPr>
            <p:ph type="sldNum" idx="9"/>
          </p:nvPr>
        </p:nvSpPr>
        <p:spPr>
          <a:xfrm>
            <a:off x="10952280" y="586692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27AEF-8122-4350-AA81-1B2884E7F61A}"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Group 6"/>
          <p:cNvGrpSpPr/>
          <p:nvPr/>
        </p:nvGrpSpPr>
        <p:grpSpPr>
          <a:xfrm>
            <a:off x="150840" y="0"/>
            <a:ext cx="2436840" cy="6858000"/>
            <a:chOff x="150840" y="0"/>
            <a:chExt cx="2436840" cy="6858000"/>
          </a:xfrm>
        </p:grpSpPr>
        <p:sp>
          <p:nvSpPr>
            <p:cNvPr id="145"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5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151" name="TextBox 1"/>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152" name="TextBox 2"/>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15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15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155" name="PlaceHolder 3"/>
          <p:cNvSpPr>
            <a:spLocks noGrp="1"/>
          </p:cNvSpPr>
          <p:nvPr>
            <p:ph type="dt" idx="10"/>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56" name="PlaceHolder 4"/>
          <p:cNvSpPr>
            <a:spLocks noGrp="1"/>
          </p:cNvSpPr>
          <p:nvPr>
            <p:ph type="ftr" idx="11"/>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157" name="PlaceHolder 5"/>
          <p:cNvSpPr>
            <a:spLocks noGrp="1"/>
          </p:cNvSpPr>
          <p:nvPr>
            <p:ph type="sldNum" idx="12"/>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60FEC-C2E9-478F-9388-3D6E66B64B97}"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Group 6"/>
          <p:cNvGrpSpPr/>
          <p:nvPr/>
        </p:nvGrpSpPr>
        <p:grpSpPr>
          <a:xfrm>
            <a:off x="150840" y="0"/>
            <a:ext cx="2436840" cy="6858000"/>
            <a:chOff x="150840" y="0"/>
            <a:chExt cx="2436840" cy="6858000"/>
          </a:xfrm>
        </p:grpSpPr>
        <p:sp>
          <p:nvSpPr>
            <p:cNvPr id="195"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20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201" name="TextBox 1"/>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202" name="TextBox 2"/>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2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2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205" name="PlaceHolder 3"/>
          <p:cNvSpPr>
            <a:spLocks noGrp="1"/>
          </p:cNvSpPr>
          <p:nvPr>
            <p:ph type="dt" idx="13"/>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1161c4"/>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161c4"/>
                </a:solidFill>
                <a:latin typeface="Corbel"/>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207" name="PlaceHolder 5"/>
          <p:cNvSpPr>
            <a:spLocks noGrp="1"/>
          </p:cNvSpPr>
          <p:nvPr>
            <p:ph type="sldNum" idx="15"/>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1161c4"/>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BA342-3D91-49C1-8760-6DB41FF4D4B6}" type="slidenum">
              <a:rPr b="0" lang="en-GB" sz="1000" spc="-1" strike="noStrike">
                <a:solidFill>
                  <a:srgbClr val="1161c4"/>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20760" y="746280"/>
            <a:ext cx="8574120" cy="27381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600" spc="-1" strike="noStrike">
                <a:solidFill>
                  <a:srgbClr val="1161c4"/>
                </a:solidFill>
                <a:latin typeface="Corbel"/>
              </a:rPr>
              <a:t>ΣΥΝΑΛΛΑΓΜΑΤΙΚΑ ΣΥΣΤΗΜΑΤΑ, ΑΓΟΡΕΣ ΣΥΝΑΛΛΑΓΜΑΤΟΣ ΚΑΙ ΣΥΝΑΛΛΑΓΜΑΤΙΚΗ ΠΟΛΙΤΙΚΗ επ. </a:t>
            </a:r>
            <a:br>
              <a:rPr sz="3600"/>
            </a:br>
            <a:br>
              <a:rPr sz="3600"/>
            </a:br>
            <a:endParaRPr b="0" lang="en-US" sz="3600" spc="-1" strike="noStrike">
              <a:solidFill>
                <a:srgbClr val="1161c4"/>
              </a:solidFill>
              <a:latin typeface="Corbel"/>
            </a:endParaRPr>
          </a:p>
        </p:txBody>
      </p:sp>
      <p:sp>
        <p:nvSpPr>
          <p:cNvPr id="245" name="PlaceHolder 2"/>
          <p:cNvSpPr>
            <a:spLocks noGrp="1"/>
          </p:cNvSpPr>
          <p:nvPr>
            <p:ph type="subTitle"/>
          </p:nvPr>
        </p:nvSpPr>
        <p:spPr>
          <a:xfrm>
            <a:off x="4514760" y="3995280"/>
            <a:ext cx="6988320" cy="1389240"/>
          </a:xfrm>
          <a:prstGeom prst="rect">
            <a:avLst/>
          </a:prstGeom>
          <a:noFill/>
          <a:ln w="0">
            <a:noFill/>
          </a:ln>
        </p:spPr>
        <p:txBody>
          <a:bodyPr anchor="t">
            <a:noAutofit/>
          </a:bodyPr>
          <a:p>
            <a:pPr indent="0" algn="r">
              <a:lnSpc>
                <a:spcPct val="80000"/>
              </a:lnSpc>
              <a:spcBef>
                <a:spcPts val="3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200" spc="-1" strike="noStrike">
                <a:solidFill>
                  <a:srgbClr val="1161c4"/>
                </a:solidFill>
                <a:latin typeface="Corbel"/>
              </a:rPr>
              <a:t>ΠΑΝΕΠΙΣΤΗΜΙΟ ΠΕΙΡΑΙΩΣ </a:t>
            </a:r>
            <a:br>
              <a:rPr sz="1200"/>
            </a:br>
            <a:r>
              <a:rPr b="1" lang="el-GR" sz="1200" spc="-1" strike="noStrike">
                <a:solidFill>
                  <a:srgbClr val="1161c4"/>
                </a:solidFill>
                <a:latin typeface="Corbel"/>
              </a:rPr>
              <a:t>ΣΧΟΛΗ ΟΙΚΟΝΟΜΙΚΩΝ, ΕΠΙΧΕΙΡΗΜΑΤΙΚΩΝ ΚΑΙ ΔΙΕΘΝΩΝ ΣΠΟΥΔΩΝ </a:t>
            </a:r>
            <a:br>
              <a:rPr sz="1200"/>
            </a:br>
            <a:r>
              <a:rPr b="1" lang="el-GR" sz="1200" spc="-1" strike="noStrike">
                <a:solidFill>
                  <a:srgbClr val="1161c4"/>
                </a:solidFill>
                <a:latin typeface="Corbel"/>
              </a:rPr>
              <a:t> </a:t>
            </a:r>
            <a:endParaRPr b="0" lang="en-US" sz="1200" spc="-1" strike="noStrike">
              <a:solidFill>
                <a:srgbClr val="1161c4"/>
              </a:solidFill>
              <a:latin typeface="Corbel"/>
            </a:endParaRPr>
          </a:p>
          <a:p>
            <a:pPr indent="0" algn="r">
              <a:lnSpc>
                <a:spcPct val="80000"/>
              </a:lnSpc>
              <a:spcBef>
                <a:spcPts val="3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161c4"/>
              </a:solidFill>
              <a:latin typeface="Corbel"/>
            </a:endParaRPr>
          </a:p>
          <a:p>
            <a:pPr indent="0" algn="r">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100" spc="-1" strike="noStrike">
                <a:solidFill>
                  <a:srgbClr val="1161c4"/>
                </a:solidFill>
                <a:latin typeface="Corbel"/>
              </a:rPr>
              <a:t>Άγγελος Κότιος </a:t>
            </a:r>
            <a:endParaRPr b="0" lang="en-US" sz="1100" spc="-1" strike="noStrike">
              <a:solidFill>
                <a:srgbClr val="1161c4"/>
              </a:solidFill>
              <a:latin typeface="Corbel"/>
            </a:endParaRPr>
          </a:p>
          <a:p>
            <a:pPr indent="0" algn="r">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100" spc="-1" strike="noStrike">
                <a:solidFill>
                  <a:srgbClr val="1161c4"/>
                </a:solidFill>
                <a:latin typeface="Corbel"/>
              </a:rPr>
              <a:t>ΧΕ 20</a:t>
            </a:r>
            <a:r>
              <a:rPr b="1" lang="en-US" sz="1100" spc="-1" strike="noStrike">
                <a:solidFill>
                  <a:srgbClr val="1161c4"/>
                </a:solidFill>
                <a:latin typeface="Corbel"/>
              </a:rPr>
              <a:t>2</a:t>
            </a:r>
            <a:r>
              <a:rPr b="1" lang="el-GR" sz="1100" spc="-1" strike="noStrike">
                <a:solidFill>
                  <a:srgbClr val="1161c4"/>
                </a:solidFill>
                <a:latin typeface="Corbel"/>
              </a:rPr>
              <a:t>4 </a:t>
            </a:r>
            <a:endParaRPr b="0" lang="en-US" sz="1100" spc="-1" strike="noStrike">
              <a:solidFill>
                <a:srgbClr val="1161c4"/>
              </a:solidFill>
              <a:latin typeface="Corbel"/>
            </a:endParaRPr>
          </a:p>
          <a:p>
            <a:pPr indent="0" algn="r">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1161c4"/>
              </a:solidFill>
              <a:latin typeface="Corbel"/>
            </a:endParaRPr>
          </a:p>
        </p:txBody>
      </p:sp>
      <p:pic>
        <p:nvPicPr>
          <p:cNvPr id="246" name="Εικόνα 4" descr=""/>
          <p:cNvPicPr/>
          <p:nvPr/>
        </p:nvPicPr>
        <p:blipFill>
          <a:blip r:embed="rId1"/>
          <a:stretch/>
        </p:blipFill>
        <p:spPr>
          <a:xfrm>
            <a:off x="639720" y="5261040"/>
            <a:ext cx="124956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2"/>
          <p:cNvSpPr/>
          <p:nvPr/>
        </p:nvSpPr>
        <p:spPr>
          <a:xfrm>
            <a:off x="1541520" y="177840"/>
            <a:ext cx="104965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4.4 Συναλλαγματικές θέσεις</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Μετρητά σε ξένο συνάλλαγμα</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Παρέχουν τη δυνατότητα στη χώρα να αντιμετωπίσει πιέσεις στις διεθνείς αγορές ή να καλύψει την ανάγκη για εισαγωγές.</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4.5 Επενδύσεις σε αξιόγραφα υψηλής ποιότητας στις αγορές </a:t>
            </a:r>
            <a:endParaRPr b="0" lang="en-US" sz="1800" spc="-1" strike="noStrike">
              <a:solidFill>
                <a:srgbClr val="1161c4"/>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Τα αποθέματα μπορούν να επενδύονται και σε εξαιρετικά ασφαλή επενδυτικά προϊόντα, όπως εμπορικά αξιόγραφα, βραχυπρόθεσμα χρεόγραφα ή επενδύσεις σε διεθνείς χρηματοπιστωτικές αγορές.</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Αυτά τα προϊόντα προσφέρουν καλές αποδόσεις με ελεγχόμενο κίνδυνο.</a:t>
            </a:r>
            <a:endParaRPr b="0" lang="en-US" sz="1800" spc="-1" strike="noStrike">
              <a:solidFill>
                <a:srgbClr val="1161c4"/>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4.6. Επενδύσεις σε αναπτυσσόμενες αγορές</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π.χ. σε ομόλογα από αναπτυσσόμενες οικονομίες ή άλλες στρατηγικές επενδύσεις). </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Αυτή η στρατηγική στοχεύει σε υψηλότερες αποδόσεις, αλλά συνεπάγεται και μεγαλύτερο κίνδυνο.</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4. 7. Επενδύσεις σε αμοιβαία κεφάλαια και ETFs (</a:t>
            </a:r>
            <a:r>
              <a:rPr b="1" lang="en-US" sz="1800" spc="-1" strike="noStrike">
                <a:solidFill>
                  <a:srgbClr val="1161c4"/>
                </a:solidFill>
                <a:latin typeface="Arial"/>
              </a:rPr>
              <a:t>Exchange-Traded Funds </a:t>
            </a:r>
            <a:r>
              <a:rPr b="1" lang="el-GR" sz="1800" spc="-1" strike="noStrike">
                <a:solidFill>
                  <a:srgbClr val="1161c4"/>
                </a:solidFill>
                <a:latin typeface="Arial"/>
              </a:rPr>
              <a:t>/ καλάθι τίτλων) </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Σε κάποιες περιπτώσεις, οι κεντρικές τράπεζες ή τα κράτη μπορεί να επενδύουν σε αμοιβαία κεφάλαια (mutual funds) ή (ETFs) που εστιάζουν σε συγκεκριμένες αγορές ή σε ευρύτερους δείκτες, αναλαμβάνοντας μεγαλύτερο ρίσκο με την ελπίδα για υψηλότερες αποδόσεις.</a:t>
            </a: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
          <p:cNvSpPr/>
          <p:nvPr/>
        </p:nvSpPr>
        <p:spPr>
          <a:xfrm>
            <a:off x="1596960" y="223920"/>
            <a:ext cx="10385640" cy="60231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5</a:t>
            </a:r>
            <a:r>
              <a:rPr b="0" lang="el-GR" sz="2000" spc="-1" strike="noStrike">
                <a:solidFill>
                  <a:srgbClr val="1161c4"/>
                </a:solidFill>
                <a:latin typeface="Calibri"/>
                <a:ea typeface="Calibri"/>
              </a:rPr>
              <a:t>. </a:t>
            </a:r>
            <a:r>
              <a:rPr b="1" lang="el-GR" sz="2000" spc="-1" strike="noStrike">
                <a:solidFill>
                  <a:srgbClr val="1161c4"/>
                </a:solidFill>
                <a:latin typeface="Calibri"/>
                <a:ea typeface="Calibri"/>
              </a:rPr>
              <a:t>Στρατηγική και Κίνδυνοι</a:t>
            </a:r>
            <a:endParaRPr b="0" lang="en-US" sz="2000" spc="-1" strike="noStrike">
              <a:solidFill>
                <a:srgbClr val="1161c4"/>
              </a:solidFill>
              <a:latin typeface="Arial"/>
            </a:endParaRPr>
          </a:p>
          <a:p>
            <a:pPr lvl="1" marL="743040" indent="-285840" algn="just">
              <a:lnSpc>
                <a:spcPct val="107000"/>
              </a:lnSpc>
              <a:spcAft>
                <a:spcPts val="799"/>
              </a:spcAft>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Calibri"/>
                <a:ea typeface="Calibri"/>
              </a:rPr>
              <a:t>Η στρατηγική διαχείρισης των συναλλαγματικών αποθεμάτων είναι συντηρητική και εστιάζει στη μείωση του κινδύνου, καθώς το κύριο μέλημα των κεντρικών τραπεζών είναι η ασφάλεια και η ρευστότητα, και όχι η μεγιστοποίηση της απόδοσης.</a:t>
            </a:r>
            <a:endParaRPr b="0" lang="en-US" sz="2000" spc="-1" strike="noStrike">
              <a:solidFill>
                <a:srgbClr val="1161c4"/>
              </a:solidFill>
              <a:latin typeface="Arial"/>
            </a:endParaRPr>
          </a:p>
          <a:p>
            <a:pPr lvl="1" marL="743040" indent="-285840" algn="just">
              <a:lnSpc>
                <a:spcPct val="107000"/>
              </a:lnSpc>
              <a:spcAft>
                <a:spcPts val="799"/>
              </a:spcAft>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161c4"/>
              </a:solidFill>
              <a:latin typeface="Arial"/>
            </a:endParaRPr>
          </a:p>
          <a:p>
            <a:pPr lvl="1" marL="743040" indent="-285840" algn="just">
              <a:lnSpc>
                <a:spcPct val="107000"/>
              </a:lnSpc>
              <a:spcAft>
                <a:spcPts val="799"/>
              </a:spcAft>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Calibri"/>
                <a:ea typeface="Calibri"/>
              </a:rPr>
              <a:t>Κίνδυνοι που πρέπει να ληφθούν υπόψη περιλαμβάνουν την υποτίμηση των νομισμάτων (π.χ., αν μια χώρα επενδύει σε ξένα νομίσματα και αυτά χάσουν αξία), καθώς και τη ρευστότητα (αν τα επενδυμένα κεφάλαια είναι δύσκολο να πωληθούν σε περίπτωση ανάγκης).</a:t>
            </a:r>
            <a:endParaRPr b="0" lang="en-US" sz="2000" spc="-1" strike="noStrike">
              <a:solidFill>
                <a:srgbClr val="1161c4"/>
              </a:solidFill>
              <a:latin typeface="Arial"/>
            </a:endParaRPr>
          </a:p>
          <a:p>
            <a:pPr lvl="1" marL="743040" indent="-285840" algn="just">
              <a:lnSpc>
                <a:spcPct val="107000"/>
              </a:lnSpc>
              <a:spcAft>
                <a:spcPts val="799"/>
              </a:spcAft>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161c4"/>
              </a:solidFill>
              <a:latin typeface="Arial"/>
            </a:endParaRPr>
          </a:p>
          <a:p>
            <a:pPr lvl="1" marL="743040" indent="-285840" algn="just">
              <a:lnSpc>
                <a:spcPct val="107000"/>
              </a:lnSpc>
              <a:spcAft>
                <a:spcPts val="799"/>
              </a:spcAft>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2000" spc="-1" strike="noStrike">
                <a:solidFill>
                  <a:srgbClr val="1161c4"/>
                </a:solidFill>
                <a:latin typeface="Calibri"/>
                <a:ea typeface="Calibri"/>
              </a:rPr>
              <a:t>Συμπερασματικά:</a:t>
            </a:r>
            <a:endParaRPr b="0" lang="en-US" sz="2000" spc="-1" strike="noStrike">
              <a:solidFill>
                <a:srgbClr val="1161c4"/>
              </a:solidFill>
              <a:latin typeface="Arial"/>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Calibri"/>
                <a:ea typeface="Calibri"/>
              </a:rPr>
              <a:t>Η επένδυση των συναλλαγματικών αποθεμάτων ακολουθεί μια συντηρητική προσέγγιση, με στόχο τη διατήρηση της ασφάλειας, τη διασφάλιση της ρευστότητας και την απόδοση σε χαμηλό ρίσκο, ώστε να διασφαλιστεί η οικονομική σταθερότητα της χώρας. </a:t>
            </a:r>
            <a:endParaRPr b="0" lang="en-US" sz="2000" spc="-1" strike="noStrike">
              <a:solidFill>
                <a:srgbClr val="1161c4"/>
              </a:solidFill>
              <a:latin typeface="Arial"/>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Calibri"/>
                <a:ea typeface="Calibri"/>
              </a:rPr>
              <a:t>Τα αποθέματα αυτά βοηθούν στην προστασία της χώρας απέναντι σε εξωτερικές πιέσεις και παρέχουν τη δυνατότητα για τη χρηματοδότηση εξωτερικών υποχρεώσεων.</a:t>
            </a:r>
            <a:endParaRPr b="0" lang="en-US" sz="2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4"/>
          <p:cNvSpPr/>
          <p:nvPr/>
        </p:nvSpPr>
        <p:spPr>
          <a:xfrm>
            <a:off x="1528920" y="122400"/>
            <a:ext cx="1054872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6. Διαχειριστές των συναλλαγματικών αποθεμάτων </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6.1 Κεντρική Τράπεζα</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Η κεντρική τράπεζα είναι συνήθως υπεύθυνη για:</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Την εκτίμηση και πολιτική διαχείριση των συναλλαγματικών αποθεμάτων.</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Την αναγκαία συντήρηση των αποθεμάτων σε διάφορες νομισματικές μορφές (όπως χρυσός, ομόλογα, καταθέσεις κ.λπ.).</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Την επιτήρηση της διαχείρισης των αποθεμάτων ώστε να εξασφαλίζεται η ρευστότητα και η ασφάλεια.</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Την εφαρμογή των νομισματικών πολιτικών, που μπορεί να περιλαμβάνουν τη χρήση των αποθεμάτων για παρεμβάσεις στις αγορές συναλλάγματος για να διατηρηθεί η αξία του εθνικού νομίσματος.</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6.2  Εξωτερικοί </a:t>
            </a:r>
            <a:r>
              <a:rPr b="1" lang="de-DE" sz="1800" spc="-1" strike="noStrike">
                <a:solidFill>
                  <a:srgbClr val="1161c4"/>
                </a:solidFill>
                <a:latin typeface="Arial"/>
              </a:rPr>
              <a:t>- </a:t>
            </a:r>
            <a:r>
              <a:rPr b="1" lang="el-GR" sz="1800" spc="-1" strike="noStrike">
                <a:solidFill>
                  <a:srgbClr val="1161c4"/>
                </a:solidFill>
                <a:latin typeface="Arial"/>
              </a:rPr>
              <a:t>Ειδικοί Διαχειριστές Κεφαλαίων</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Σε ορισμένες χώρες, η κεντρική τράπεζα μπορεί να αναθέσει τη διαχείριση μέρους των συναλλαγματικών αποθεμάτων σε εξωτερικούς επενδυτικούς οργανισμούς ή διαχειριστές κεφαλαίων.</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Αυτές οι εξωτερικές εταιρείες διαχείρισης είναι ειδικευμένες στη διαχείριση μεγάλων αποθεμάτων και επενδύσεων, και συνεργάζονται στενά με την κεντρική τράπεζα </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Οι εξωτερικοί διαχειριστές χρησιμοποιούν στρατηγικές επενδύσεων που περιλαμβάνουν την αγορά ομολόγων ή την τοποθέτηση χρημάτων σε βραχυπρόθεσμα επενδυτικά εργαλεία.</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ο</a:t>
            </a: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2"/>
          <p:cNvSpPr/>
          <p:nvPr/>
        </p:nvSpPr>
        <p:spPr>
          <a:xfrm>
            <a:off x="1596960" y="163440"/>
            <a:ext cx="10344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6.3. Υπουργείο Οικονομικών</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Σε κάποιες περιπτώσεις, το Υπουργείο Οικονομικών μπορεί να εμπλέκεται σε κάποιες αποφάσεις σχετικά με τη διαχείριση των συναλλαγματικών αποθεμάτων, ιδίως όταν αφορά στρατηγικές προστασίας από κρίσεις ή διαχείρισης του εξωτερικού χρέους. </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Ωστόσο, η πρακτική διαχείριση γίνεται συνήθως από την κεντρική τράπεζα.</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6.4. Διεθνείς Οργανισμοί</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Οι διεθνείς οργανισμοί, όπως το Διεθνές Νομισματικό Ταμείο (ΔΝΤ), δεν διαχειρίζονται άμεσα τα συναλλαγματικά αποθέματα των χωρών</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Παρέχουν κατευθύνσεις και βοήθεια σε χώρες που αντιμετωπίζουν προβλήματα στη διαχείριση τους ή ανάγκη για αναδιάρθρωση.</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Στην περίπτωση κρίσεων ή διεθνών αναταράξεων, οι χώρες μπορούν να στραφούν στο ΔΝΤ για δάνεια ή στήριξη μέσω συναλλαγματικών αποθεμάτων.</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6.5 Συμπέρασμα</a:t>
            </a:r>
            <a:r>
              <a:rPr b="0" lang="el-GR" sz="1800" spc="-1" strike="noStrike">
                <a:solidFill>
                  <a:srgbClr val="1161c4"/>
                </a:solidFill>
                <a:latin typeface="Arial"/>
              </a:rPr>
              <a:t>:</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Η διαχείριση των συναλλαγματικών αποθεμάτων είναι κυρίως ευθύνη της κεντρικής τράπεζας, αν και σε ορισμένες περιπτώσεις η διαχείριση μπορεί να γίνεται με την βοήθεια εξωτερικών επενδυτικών φορέων. Η στρατηγική αυτή απαιτεί εξειδικευμένες γνώσεις για την προστασία της αξίας των αποθεμάτων, τη διασφάλιση της ρευστότητας και την εξασφάλιση της οικονομικής σταθερότητας της χώρας.</a:t>
            </a: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2"/>
          <p:cNvSpPr/>
          <p:nvPr/>
        </p:nvSpPr>
        <p:spPr>
          <a:xfrm>
            <a:off x="1801800" y="2401920"/>
            <a:ext cx="9156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1161c4"/>
                </a:solidFill>
                <a:latin typeface="Arial"/>
              </a:rPr>
              <a:t>7. ΣΥΝΑΛΛΑΓΜΑΤΙΚΑ ΑΠΟΘΕΜΑΤΑ ΣΥΝΟΛΙΚΑ ΚΑΙ ΑΝΑ ΧΩΡΑ </a:t>
            </a:r>
            <a:endParaRPr b="0" lang="en-US" sz="2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Εικόνα 2"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Εικόνα 2"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Εικόνα 1" descr=""/>
          <p:cNvPicPr/>
          <p:nvPr/>
        </p:nvPicPr>
        <p:blipFill>
          <a:blip r:embed="rId1"/>
          <a:stretch/>
        </p:blipFill>
        <p:spPr>
          <a:xfrm>
            <a:off x="0" y="136440"/>
            <a:ext cx="12192120" cy="672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Εικόνα 1" descr=""/>
          <p:cNvPicPr/>
          <p:nvPr/>
        </p:nvPicPr>
        <p:blipFill>
          <a:blip r:embed="rId1"/>
          <a:stretch/>
        </p:blipFill>
        <p:spPr>
          <a:xfrm>
            <a:off x="95400" y="150840"/>
            <a:ext cx="12096720" cy="670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Εικόνα 1" descr="undefined"/>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4"/>
          <p:cNvSpPr/>
          <p:nvPr/>
        </p:nvSpPr>
        <p:spPr>
          <a:xfrm>
            <a:off x="1338120" y="3054240"/>
            <a:ext cx="10302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4000" spc="-1" strike="noStrike">
                <a:solidFill>
                  <a:srgbClr val="0d0d0d"/>
                </a:solidFill>
                <a:latin typeface="Calibri"/>
                <a:ea typeface="Times New Roman"/>
              </a:rPr>
              <a:t>Παγκόσμια συναλλαγματικά αποθέματα (</a:t>
            </a:r>
            <a:r>
              <a:rPr b="0" lang="en-US" sz="4000" spc="-1" strike="noStrike">
                <a:solidFill>
                  <a:srgbClr val="0d0d0d"/>
                </a:solidFill>
                <a:latin typeface="Calibri"/>
                <a:ea typeface="Times New Roman"/>
              </a:rPr>
              <a:t>foreign exchange reserves</a:t>
            </a:r>
            <a:r>
              <a:rPr b="0" lang="el-GR" sz="4000" spc="-1" strike="noStrike">
                <a:solidFill>
                  <a:srgbClr val="0d0d0d"/>
                </a:solidFill>
                <a:latin typeface="Calibri"/>
                <a:ea typeface="Times New Roman"/>
              </a:rPr>
              <a:t>) </a:t>
            </a:r>
            <a:endParaRPr b="0" lang="en-US" sz="4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Εικόνα 2" descr=""/>
          <p:cNvPicPr/>
          <p:nvPr/>
        </p:nvPicPr>
        <p:blipFill>
          <a:blip r:embed="rId1"/>
          <a:stretch/>
        </p:blipFill>
        <p:spPr>
          <a:xfrm>
            <a:off x="95400" y="95400"/>
            <a:ext cx="11982240" cy="676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2"/>
          <p:cNvSpPr/>
          <p:nvPr/>
        </p:nvSpPr>
        <p:spPr>
          <a:xfrm>
            <a:off x="1555920" y="109440"/>
            <a:ext cx="1063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7.1 Ευρωζώνη</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Τα συναλλαγματικά αποθέματα στην Ευρωζώνη έχουν σημαντική στρατηγική και οικονομική σημασία, αν και διαχειρίζονται διαφορετικά σε σύγκριση με άλλες χώρες, λόγω του κοινού νομίσματος, του ευρώ. </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Στην περίπτωση της Ευρωζώνης, τα συναλλαγματικά αποθέματα δεν ανήκουν σε μεμονωμένα κράτη-μέλη, αλλά είναι συγκεντρωμένα και διαχειρίζονται κεντρικά από την Ευρωπαϊκή Κεντρική Τράπεζα (ΕΚΤ) και τις Εθνικές Κεντρικές Τράπεζες των κρατών-μελών.</a:t>
            </a: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Πιθανή λειτουργία τους σε τέσσερις βασικούς τομείς:</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Στήριξη του ευρώ και σταθερότητα της οικονομίας, δυνατότητα παρεμβάσεων στις αγορές συναλλάγματος, αν κριθεί απαραίτητο, για να αποτρέψει υπερβολικές διακυμάνσεις του νομίσματος.</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Διαχείριση εξωτερικών πληρωμών και εμπορίου. Τα συναλλαγματικά αποθέματα επιτρέπουν στην Ευρωζώνη να διευκολύνει τις διεθνείς εμπορικές συναλλαγές και να εξασφαλίζει τη διεθνή ρευστότητα.</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Είναι απαραίτητα για να καλύψουν τις ανάγκες σε εισαγωγές αγαθών και υπηρεσιών, αλλά και για την εξυπηρέτηση του εξωτερικού χρέους των κρατών μελών της Ευρωζώνης.</a:t>
            </a: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2"/>
          <p:cNvSpPr/>
          <p:nvPr/>
        </p:nvSpPr>
        <p:spPr>
          <a:xfrm>
            <a:off x="1582560" y="150840"/>
            <a:ext cx="1049508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Στρατηγική ασφάλειας και διαχείριση κρίσεων</a:t>
            </a:r>
            <a:endParaRPr b="0" lang="en-US" sz="1800" spc="-1" strike="noStrike">
              <a:solidFill>
                <a:srgbClr val="1161c4"/>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lvl="1" marL="45720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Στην περίπτωση οικονομικών κρίσεων ή κρίσεων ισοτιμίας, η ΕΚΤ και τα εθνικά κεντρικά χρησιμοποιούν τα συναλλαγματικά αποθέματα ως εργαλείο για να εξασφαλίσουν την οικονομική ασφάλεια και να περιορίσουν τις οικονομικές αναταράξεις.</a:t>
            </a:r>
            <a:endParaRPr b="0" lang="en-US" sz="1800" spc="-1" strike="noStrike">
              <a:solidFill>
                <a:srgbClr val="1161c4"/>
              </a:solidFill>
              <a:latin typeface="Arial"/>
            </a:endParaRPr>
          </a:p>
          <a:p>
            <a:pPr lvl="1" marL="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marL="285840" indent="-28584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Διαχείριση νομισματικών πολιτικών και ρυθμίσεων</a:t>
            </a:r>
            <a:endParaRPr b="0" lang="en-US" sz="1800" spc="-1" strike="noStrike">
              <a:solidFill>
                <a:srgbClr val="1161c4"/>
              </a:solidFill>
              <a:latin typeface="Arial"/>
            </a:endParaRPr>
          </a:p>
          <a:p>
            <a:pPr lvl="1" marL="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lvl="1" marL="45720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Η ΕΚΤ έχει τον έλεγχο των συναλλαγματικών αποθεμάτων της Ευρωζώνης και χρησιμοποιεί αυτές τις αποταμιεύσεις για να υλοποιήσει τις νομισματικές πολιτικές της και να εγγυηθεί την οικονομική σταθερότητα.</a:t>
            </a:r>
            <a:endParaRPr b="0" lang="en-US" sz="1800" spc="-1" strike="noStrike">
              <a:solidFill>
                <a:srgbClr val="1161c4"/>
              </a:solidFill>
              <a:latin typeface="Arial"/>
            </a:endParaRPr>
          </a:p>
          <a:p>
            <a:pPr lvl="1" marL="45720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Η διαχείριση των αποθεμάτων μπορεί να περιλαμβάνει την αγορά ή πώληση ξένου νομίσματος, τη χρήση του χρυσού ή άλλων χρηματοπιστωτικών εργαλείων με σκοπό να εξασφαλίσουν την εκτέλεση της νομισματικής πολιτικής της ΕΚΤ.</a:t>
            </a:r>
            <a:endParaRPr b="0" lang="en-US" sz="1800" spc="-1" strike="noStrike">
              <a:solidFill>
                <a:srgbClr val="1161c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3"/>
          <p:cNvSpPr/>
          <p:nvPr/>
        </p:nvSpPr>
        <p:spPr>
          <a:xfrm>
            <a:off x="1487520" y="163440"/>
            <a:ext cx="10604520" cy="61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7.2 Κίνα </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Η Κίνα διαχειρίζεται τα συναλλαγματικά της αποθέματα με στρατηγικό και διαφοροποιημένο τρόπο, καθώς αυτά είναι τεράστια και χρησιμεύουν για την υποστήριξη της οικονομίας και της σταθερότητας του γουάν. Τα κυριότερα σημεία της στρατηγικής επένδυσης είναι:</a:t>
            </a:r>
            <a:endParaRPr b="0" lang="en-US" sz="20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Arial"/>
              </a:rPr>
              <a:t>Αγορές Αμερικανικών Ομολόγων (U.S. Treasury Bonds)</a:t>
            </a:r>
            <a:endParaRPr b="0" lang="en-US" sz="20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Ένα σημαντικό ποσοστό των κινεζικών συναλλαγματικών αποθεμάτων </a:t>
            </a:r>
            <a:r>
              <a:rPr b="1" lang="el-GR" sz="2000" spc="-1" strike="noStrike">
                <a:solidFill>
                  <a:srgbClr val="1161c4"/>
                </a:solidFill>
                <a:latin typeface="Arial"/>
              </a:rPr>
              <a:t>(1.1 τρισεκατομμύρια</a:t>
            </a:r>
            <a:r>
              <a:rPr b="1" lang="de-DE" sz="2000" spc="-1" strike="noStrike">
                <a:solidFill>
                  <a:srgbClr val="1161c4"/>
                </a:solidFill>
                <a:latin typeface="Arial"/>
              </a:rPr>
              <a:t> $</a:t>
            </a:r>
            <a:r>
              <a:rPr b="1" lang="en-US" sz="2000" spc="-1" strike="noStrike">
                <a:solidFill>
                  <a:srgbClr val="1161c4"/>
                </a:solidFill>
                <a:latin typeface="Arial"/>
              </a:rPr>
              <a:t>)</a:t>
            </a:r>
            <a:r>
              <a:rPr b="1" lang="el-GR" sz="2000" spc="-1" strike="noStrike">
                <a:solidFill>
                  <a:srgbClr val="1161c4"/>
                </a:solidFill>
                <a:latin typeface="Arial"/>
              </a:rPr>
              <a:t> είναι επενδυμένα</a:t>
            </a:r>
            <a:r>
              <a:rPr b="0" lang="el-GR" sz="2000" spc="-1" strike="noStrike">
                <a:solidFill>
                  <a:srgbClr val="1161c4"/>
                </a:solidFill>
                <a:latin typeface="Arial"/>
              </a:rPr>
              <a:t> σε αμερικανικά κρατικά ομόλογα, καθώς τα ομόλογα αυτά θεωρούνται ασφαλής επένδυση και προσφέρουν σχετικά υψηλή απόδοση. Η Κίνα κατέχει περίπου $σε αμερικανικά κρατικά ομόλογα. </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Η Κίνα κατέχει περίπου το 1/5 των αμερικανικών κρατικών ομολόγων</a:t>
            </a:r>
            <a:endParaRPr b="0" lang="en-US" sz="2000" spc="-1" strike="noStrike">
              <a:solidFill>
                <a:srgbClr val="1161c4"/>
              </a:solidFill>
              <a:latin typeface="Arial"/>
            </a:endParaRPr>
          </a:p>
          <a:p>
            <a:pPr lvl="1" marL="743040" indent="-285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Arial"/>
              </a:rPr>
              <a:t>Χρυσός</a:t>
            </a:r>
            <a:endParaRPr b="0" lang="en-US" sz="20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Η Κίνα είναι επίσης σημαντικός αγοραστής χρυσού. </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Η Κίνα κατέχει περίπου 2,000 τόνους χρυσού, με στόχο την ενίσχυση της διαφοροποίησης των συναλλαγματικών αποθεμάτων της</a:t>
            </a:r>
            <a:endParaRPr b="0" lang="en-US" sz="20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2"/>
          <p:cNvSpPr/>
          <p:nvPr/>
        </p:nvSpPr>
        <p:spPr>
          <a:xfrm>
            <a:off x="1582560" y="368280"/>
            <a:ext cx="10609560" cy="619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a:t>
            </a:r>
            <a:r>
              <a:rPr b="1" lang="el-GR" sz="2000" spc="-1" strike="noStrike">
                <a:solidFill>
                  <a:srgbClr val="1161c4"/>
                </a:solidFill>
                <a:latin typeface="Arial"/>
              </a:rPr>
              <a:t>Άλλα Ξένα Νόμισμα και Διεθνή Συναλλαγματικά Αποθέματα</a:t>
            </a:r>
            <a:endParaRPr b="0" lang="en-US" sz="2000" spc="-1" strike="noStrike">
              <a:solidFill>
                <a:srgbClr val="1161c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Τα συναλλαγματικά αποθέματα της Κίνας περιλαμβάνουν επίσης ευρωπαϊκά νομίσματα, κυρίως το ευρώ, αλλά και το ιαπωνικό γιεν και άλλες διεθνείς νομισματικές αξίες. </a:t>
            </a:r>
            <a:endParaRPr b="0" lang="en-US" sz="2000" spc="-1" strike="noStrike">
              <a:solidFill>
                <a:srgbClr val="1161c4"/>
              </a:solidFill>
              <a:latin typeface="Arial"/>
            </a:endParaRPr>
          </a:p>
          <a:p>
            <a:pPr lvl="1" marL="743040" indent="-285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Η διαφοροποίηση αυξάνει την ασφάλεια της στρατηγικής.</a:t>
            </a:r>
            <a:endParaRPr b="0" lang="en-US" sz="2000" spc="-1" strike="noStrike">
              <a:solidFill>
                <a:srgbClr val="1161c4"/>
              </a:solidFill>
              <a:latin typeface="Arial"/>
            </a:endParaRPr>
          </a:p>
          <a:p>
            <a:pPr marL="285840" indent="-28584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285840" indent="-28584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Arial"/>
              </a:rPr>
              <a:t>Άλλα Οικονομικά Εργαλεία και Στρατηγικές</a:t>
            </a:r>
            <a:endParaRPr b="0" lang="en-US" sz="2000" spc="-1" strike="noStrike">
              <a:solidFill>
                <a:srgbClr val="1161c4"/>
              </a:solidFill>
              <a:latin typeface="Arial"/>
            </a:endParaRPr>
          </a:p>
          <a:p>
            <a:pPr marL="285840" indent="-28584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Η Κίνα χρησιμοποιεί μέρος των αποθεμάτων της για να ενισχύσει τις επενδύσεις σε αναπτυσσόμενες αγορές, είτε μέσω άμεσων ξένων επενδύσεων είτε μέσω της </a:t>
            </a:r>
            <a:r>
              <a:rPr b="1" lang="el-GR" sz="2000" spc="-1" strike="noStrike">
                <a:solidFill>
                  <a:srgbClr val="1161c4"/>
                </a:solidFill>
                <a:latin typeface="Arial"/>
              </a:rPr>
              <a:t>Πρωτοβουλίας Μιας Ζώνης, Ενός Δρόμου </a:t>
            </a:r>
            <a:r>
              <a:rPr b="0" lang="el-GR" sz="2000" spc="-1" strike="noStrike">
                <a:solidFill>
                  <a:srgbClr val="1161c4"/>
                </a:solidFill>
                <a:latin typeface="Arial"/>
              </a:rPr>
              <a:t>(</a:t>
            </a:r>
            <a:r>
              <a:rPr b="0" lang="en-US" sz="2000" spc="-1" strike="noStrike">
                <a:solidFill>
                  <a:srgbClr val="1161c4"/>
                </a:solidFill>
                <a:latin typeface="Arial"/>
              </a:rPr>
              <a:t>One </a:t>
            </a:r>
            <a:r>
              <a:rPr b="0" lang="el-GR" sz="2000" spc="-1" strike="noStrike">
                <a:solidFill>
                  <a:srgbClr val="1161c4"/>
                </a:solidFill>
                <a:latin typeface="Arial"/>
              </a:rPr>
              <a:t>Belt</a:t>
            </a:r>
            <a:r>
              <a:rPr b="0" lang="en-US" sz="2000" spc="-1" strike="noStrike">
                <a:solidFill>
                  <a:srgbClr val="1161c4"/>
                </a:solidFill>
                <a:latin typeface="Arial"/>
              </a:rPr>
              <a:t> -</a:t>
            </a:r>
            <a:r>
              <a:rPr b="0" lang="el-GR" sz="2000" spc="-1" strike="noStrike">
                <a:solidFill>
                  <a:srgbClr val="1161c4"/>
                </a:solidFill>
                <a:latin typeface="Arial"/>
              </a:rPr>
              <a:t> </a:t>
            </a:r>
            <a:r>
              <a:rPr b="0" lang="en-US" sz="2000" spc="-1" strike="noStrike">
                <a:solidFill>
                  <a:srgbClr val="1161c4"/>
                </a:solidFill>
                <a:latin typeface="Arial"/>
              </a:rPr>
              <a:t>One </a:t>
            </a:r>
            <a:r>
              <a:rPr b="0" lang="el-GR" sz="2000" spc="-1" strike="noStrike">
                <a:solidFill>
                  <a:srgbClr val="1161c4"/>
                </a:solidFill>
                <a:latin typeface="Arial"/>
              </a:rPr>
              <a:t>Road Initiative), με στόχο την ενίσχυση της οικονομικής της επιρροής και την υποστήριξη της ανάπτυξής της</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Συμπέρασμα: Η Κίνα διαχειρίζεται τα αποθέματα της με ιδιαίτερη προσοχή για να αποφύγει κινδύνους από την υπερβολική έκθεση σε κάποιον μεμονωμένο τύπο επένδυσης (π.χ. μόνο αμερικανικά ομόλογα) και να ενισχύσει την μακροπρόθεσμη οικονομική ασφάλεια.</a:t>
            </a:r>
            <a:endParaRPr b="0" lang="en-US" sz="2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5"/>
          <p:cNvSpPr/>
          <p:nvPr/>
        </p:nvSpPr>
        <p:spPr>
          <a:xfrm>
            <a:off x="1650960" y="0"/>
            <a:ext cx="10387080" cy="67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7.3 Ρωσία </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Τα συναλλαγματικά αποθέματα της Ρωσίας διαχειρίζονται κυρίως από την Κεντρική Τράπεζα της Ρωσίας και περιλαμβάνουν ένα ευρύ φάσμα στοιχείων. </a:t>
            </a:r>
            <a:endParaRPr b="0" lang="en-US" sz="20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Η χώρα διαθέτει συνολικά περίπου </a:t>
            </a:r>
            <a:r>
              <a:rPr b="1" lang="el-GR" sz="2000" spc="-1" strike="noStrike">
                <a:solidFill>
                  <a:srgbClr val="1161c4"/>
                </a:solidFill>
                <a:latin typeface="Arial"/>
              </a:rPr>
              <a:t>$620 δισεκατομμύρια </a:t>
            </a:r>
            <a:r>
              <a:rPr b="0" lang="el-GR" sz="2000" spc="-1" strike="noStrike">
                <a:solidFill>
                  <a:srgbClr val="1161c4"/>
                </a:solidFill>
                <a:latin typeface="Arial"/>
              </a:rPr>
              <a:t>σε συναλλαγματικά αποθέματα, τα οποία επενδύονται με στρατηγικό τρόπο.</a:t>
            </a:r>
            <a:endParaRPr b="0" lang="en-US" sz="20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Περ. 300 δις είναι δεσμευμένα (</a:t>
            </a:r>
            <a:r>
              <a:rPr b="0" lang="en-US" sz="2000" spc="-1" strike="noStrike">
                <a:solidFill>
                  <a:srgbClr val="1161c4"/>
                </a:solidFill>
                <a:latin typeface="Arial"/>
              </a:rPr>
              <a:t>frozen) </a:t>
            </a:r>
            <a:endParaRPr b="0" lang="en-US" sz="2000" spc="-1" strike="noStrike">
              <a:solidFill>
                <a:srgbClr val="1161c4"/>
              </a:solidFill>
              <a:latin typeface="Arial"/>
            </a:endParaRPr>
          </a:p>
          <a:p>
            <a:pPr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Επενδύσεις και Διαχείριση:</a:t>
            </a:r>
            <a:endParaRPr b="0" lang="en-US" sz="20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2000" spc="-1" strike="noStrike">
                <a:solidFill>
                  <a:srgbClr val="1161c4"/>
                </a:solidFill>
                <a:latin typeface="Arial"/>
              </a:rPr>
              <a:t>Ξένα Νομίσματα</a:t>
            </a:r>
            <a:r>
              <a:rPr b="0" lang="el-GR" sz="2000" spc="-1" strike="noStrike">
                <a:solidFill>
                  <a:srgbClr val="1161c4"/>
                </a:solidFill>
                <a:latin typeface="Arial"/>
              </a:rPr>
              <a:t>: Ένα μεγάλο ποσοστό των ρωσικών συναλλαγματικών αποθεμάτων διατηρείται σε αμερικανικά δολάρια, αλλά και σε ευρώ και γιεν. </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Παρά τις διεθνείς κυρώσεις, η Ρωσία συνεχίζει να διατηρεί μεγάλο ποσοστό των αποθεμάτων της σε αυτά τα νομίσματα.</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2000" spc="-1" strike="noStrike">
                <a:solidFill>
                  <a:srgbClr val="1161c4"/>
                </a:solidFill>
                <a:latin typeface="Arial"/>
              </a:rPr>
              <a:t>Χρυσός:</a:t>
            </a:r>
            <a:r>
              <a:rPr b="0" lang="el-GR" sz="2000" spc="-1" strike="noStrike">
                <a:solidFill>
                  <a:srgbClr val="1161c4"/>
                </a:solidFill>
                <a:latin typeface="Arial"/>
              </a:rPr>
              <a:t> Η Ρωσία έχει σημαντικά αποθέματα χρυσού, που προσεγγίζουν 2,300 τόνους. Αυτός ο χρυσός εξυπηρετεί τον σκοπό της διαφοροποίησης των αποθεμάτων της και της προστασίας από οικονομικούς κινδύνους λόγω των δυτικών κυρώσεων.</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2000" spc="-1" strike="noStrike">
                <a:solidFill>
                  <a:srgbClr val="1161c4"/>
                </a:solidFill>
                <a:latin typeface="Arial"/>
              </a:rPr>
              <a:t>Αξιοποίηση Στρατηγικών Επενδύσεων</a:t>
            </a:r>
            <a:r>
              <a:rPr b="0" lang="el-GR" sz="2000" spc="-1" strike="noStrike">
                <a:solidFill>
                  <a:srgbClr val="1161c4"/>
                </a:solidFill>
                <a:latin typeface="Arial"/>
              </a:rPr>
              <a:t>: Η Ρωσία επενδύει επίσης σε χρηματοπιστωτικά προϊόντα υψηλής απόδοσης και διαφοροποιεί τα αποθέματά της σε διάφορους τομείς για να μειώσει την εξάρτησή της από το δολάριο και να ενισχύσει την οικονομική της αυτονομία.</a:t>
            </a:r>
            <a:endParaRPr b="0" lang="en-US" sz="2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2"/>
          <p:cNvSpPr/>
          <p:nvPr/>
        </p:nvSpPr>
        <p:spPr>
          <a:xfrm>
            <a:off x="1528920" y="0"/>
            <a:ext cx="10663200" cy="640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Νέα Στρατηγική λόγω των διεθνών κυρώσεων </a:t>
            </a:r>
            <a:r>
              <a:rPr b="0" lang="el-GR" sz="1800" spc="-1" strike="noStrike">
                <a:solidFill>
                  <a:srgbClr val="1161c4"/>
                </a:solidFill>
                <a:latin typeface="Arial"/>
              </a:rPr>
              <a:t>και του σχεδίου της Ρωσίας να μειώσει την εξάρτησή της από τα δυτικά χρηματοπιστωτικά συστήματα και να ενισχύσει την οικονομική της ασφάλεια</a:t>
            </a:r>
            <a:endParaRPr b="0" lang="en-US" sz="1800" spc="-1" strike="noStrike">
              <a:solidFill>
                <a:srgbClr val="1161c4"/>
              </a:solidFill>
              <a:latin typeface="Arial"/>
            </a:endParaRPr>
          </a:p>
          <a:p>
            <a:pPr marL="285840" indent="-28584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Η Ρωσία έχει </a:t>
            </a:r>
            <a:r>
              <a:rPr b="1" lang="el-GR" sz="1800" spc="-1" strike="noStrike">
                <a:solidFill>
                  <a:srgbClr val="1161c4"/>
                </a:solidFill>
                <a:latin typeface="Arial"/>
              </a:rPr>
              <a:t>μειώσει την εξάρτησή της από το δολάριο ΗΠΑ </a:t>
            </a:r>
            <a:r>
              <a:rPr b="0" lang="el-GR" sz="1800" spc="-1" strike="noStrike">
                <a:solidFill>
                  <a:srgbClr val="1161c4"/>
                </a:solidFill>
                <a:latin typeface="Arial"/>
              </a:rPr>
              <a:t>και προσπαθεί να επενδύει περισσότερο σε νομίσματα και χρυσό ως μέρος της στρατηγικής της για να προστατεύσει τα συναλλαγματικά της αποθέματα​</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Η Ρωσία επενδύει τα συναλλαγματικά της αποθέματα σε διάφορες χώρες και χρηματοπιστωτικά προϊόντα για να διαφοροποιήσει τους κινδύνους και να διατηρήσει τη νομισματική σταθερότητα. </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Οι βασικές περιοχές στις οποίες επενδύει είναι:</a:t>
            </a:r>
            <a:endParaRPr b="0" lang="en-US" sz="1800" spc="-1" strike="noStrike">
              <a:solidFill>
                <a:srgbClr val="1161c4"/>
              </a:solidFill>
              <a:latin typeface="Arial"/>
            </a:endParaRPr>
          </a:p>
          <a:p>
            <a:pPr marL="285840" indent="-28584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 </a:t>
            </a:r>
            <a:endParaRPr b="0" lang="en-US" sz="1800" spc="-1" strike="noStrike">
              <a:solidFill>
                <a:srgbClr val="1161c4"/>
              </a:solidFill>
              <a:latin typeface="Arial"/>
            </a:endParaRPr>
          </a:p>
          <a:p>
            <a:pPr lvl="2" marL="1200240" indent="-285840" algn="just">
              <a:lnSpc>
                <a:spcPct val="100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l-GR" sz="1800" spc="-1" strike="noStrike">
                <a:solidFill>
                  <a:srgbClr val="1161c4"/>
                </a:solidFill>
                <a:latin typeface="Arial"/>
              </a:rPr>
              <a:t>Κίνα</a:t>
            </a:r>
            <a:r>
              <a:rPr b="0" lang="el-GR" sz="1800" spc="-1" strike="noStrike">
                <a:solidFill>
                  <a:srgbClr val="1161c4"/>
                </a:solidFill>
                <a:latin typeface="Arial"/>
              </a:rPr>
              <a:t>: Η Ρωσία επενδύει στην Κίνα μέσω εμπορικών συναλλαγών και αγορών μετοχών και κρατικών ομολόγων. Οι δύο χώρες έχουν αυξήσει τη συνεργασία τους, ειδικά στον τομέα της ενέργειας και των συναλλαγματικών αποθεμάτων.</a:t>
            </a:r>
            <a:endParaRPr b="0" lang="en-US" sz="1800" spc="-1" strike="noStrike">
              <a:solidFill>
                <a:srgbClr val="1161c4"/>
              </a:solidFill>
              <a:latin typeface="Arial"/>
            </a:endParaRPr>
          </a:p>
          <a:p>
            <a:pPr lvl="2" marL="1200240" indent="-285840" algn="just">
              <a:lnSpc>
                <a:spcPct val="100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l-GR" sz="1800" spc="-1" strike="noStrike">
                <a:solidFill>
                  <a:srgbClr val="1161c4"/>
                </a:solidFill>
                <a:latin typeface="Arial"/>
              </a:rPr>
              <a:t>Ευρώπη</a:t>
            </a:r>
            <a:r>
              <a:rPr b="0" lang="el-GR" sz="1800" spc="-1" strike="noStrike">
                <a:solidFill>
                  <a:srgbClr val="1161c4"/>
                </a:solidFill>
                <a:latin typeface="Arial"/>
              </a:rPr>
              <a:t>: Η Ρωσία διατηρεί σημαντικά αποθέματα σε ευρωπαϊκές αγορές μέσω αγορών χρεογράφων, όπως τα ευρωπαϊκά κρατικά ομόλογα, παρόλο που οι κυρώσεις μετά το 2014 και τις εντάσεις έχουν περιορίσει τις επενδύσεις σε χώρες της ΕΕ.</a:t>
            </a:r>
            <a:endParaRPr b="0" lang="en-US" sz="1800" spc="-1" strike="noStrike">
              <a:solidFill>
                <a:srgbClr val="1161c4"/>
              </a:solidFill>
              <a:latin typeface="Arial"/>
            </a:endParaRPr>
          </a:p>
          <a:p>
            <a:pPr lvl="2" marL="1200240" indent="-285840" algn="just">
              <a:lnSpc>
                <a:spcPct val="100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l-GR" sz="1800" spc="-1" strike="noStrike">
                <a:solidFill>
                  <a:srgbClr val="1161c4"/>
                </a:solidFill>
                <a:latin typeface="Arial"/>
              </a:rPr>
              <a:t>Ηνωμένα Αραβικά Εμιράτα και Κατάρ: </a:t>
            </a:r>
            <a:r>
              <a:rPr b="0" lang="el-GR" sz="1800" spc="-1" strike="noStrike">
                <a:solidFill>
                  <a:srgbClr val="1161c4"/>
                </a:solidFill>
                <a:latin typeface="Arial"/>
              </a:rPr>
              <a:t>Η Ρωσία έχει επενδύσει σε χώρες του Κόλπου, όπως τα ΗΑΕ και το Κατάρ, οι οποίες είναι οικονομικά ισχυρές και παρέχουν δυνατότητες για διαφοροποίηση των αποθεμάτων.</a:t>
            </a:r>
            <a:endParaRPr b="0" lang="en-US" sz="1800" spc="-1" strike="noStrike">
              <a:solidFill>
                <a:srgbClr val="1161c4"/>
              </a:solidFill>
              <a:latin typeface="Arial"/>
            </a:endParaRPr>
          </a:p>
          <a:p>
            <a:pPr lvl="2" marL="1200240" indent="-285840" algn="just">
              <a:lnSpc>
                <a:spcPct val="100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l-GR" sz="1800" spc="-1" strike="noStrike">
                <a:solidFill>
                  <a:srgbClr val="1161c4"/>
                </a:solidFill>
                <a:latin typeface="Arial"/>
              </a:rPr>
              <a:t>Χρυσός</a:t>
            </a:r>
            <a:r>
              <a:rPr b="0" lang="el-GR" sz="1800" spc="-1" strike="noStrike">
                <a:solidFill>
                  <a:srgbClr val="1161c4"/>
                </a:solidFill>
                <a:latin typeface="Arial"/>
              </a:rPr>
              <a:t>: Παράλληλα με τις επενδύσεις σε νομίσματα, η Ρωσία διατηρεί μεγάλο μέρος των αποθεμάτων της σε χρυσό, το οποίο συχνά αγοράζεται από διεθνείς αγορές, ανεξαρτήτως της χώρας προέλευσης.</a:t>
            </a: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Εικόνα 2" descr=""/>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Εικόνα 2" descr=""/>
          <p:cNvPicPr/>
          <p:nvPr/>
        </p:nvPicPr>
        <p:blipFill>
          <a:blip r:embed="rId1"/>
          <a:stretch/>
        </p:blipFill>
        <p:spPr>
          <a:xfrm>
            <a:off x="0" y="109440"/>
            <a:ext cx="12092040" cy="674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2"/>
          <p:cNvSpPr/>
          <p:nvPr/>
        </p:nvSpPr>
        <p:spPr>
          <a:xfrm>
            <a:off x="1228680" y="136440"/>
            <a:ext cx="1065852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161c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Arial"/>
              </a:rPr>
              <a:t>Ορισμός</a:t>
            </a:r>
            <a:r>
              <a:rPr b="1" lang="en-US" sz="2000" spc="-1" strike="noStrike">
                <a:solidFill>
                  <a:srgbClr val="1161c4"/>
                </a:solidFill>
                <a:latin typeface="Arial"/>
              </a:rPr>
              <a:t> </a:t>
            </a:r>
            <a:r>
              <a:rPr b="1" lang="el-GR" sz="2000" spc="-1" strike="noStrike">
                <a:solidFill>
                  <a:srgbClr val="1161c4"/>
                </a:solidFill>
                <a:latin typeface="Arial"/>
              </a:rPr>
              <a:t>τρόποι απόκτησης </a:t>
            </a:r>
            <a:endParaRPr b="0" lang="en-US" sz="2000" spc="-1" strike="noStrike">
              <a:solidFill>
                <a:srgbClr val="1161c4"/>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Τα παγκόσμια συναλλαγματικά αποθέματα (foreign exchange reserves) είναι τα αποθέματα ξένου συναλλάγματος και άλλων νομισματικών περιουσιακών στοιχείων που διακρατούνται από τις κεντρικές τράπεζες ή άλλες νομισματικές αρχές μιας χώρας. </a:t>
            </a: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Τα αποθέματα αυτά χρησιμοποιούνται για τη σταθεροποίηση του νομίσματος, τη χρηματοδότηση εμπορικών ισοζυγίων και την αντιμετώπιση οικονομικών κρίσεων.</a:t>
            </a:r>
            <a:endParaRPr b="0" lang="en-US" sz="2000" spc="-1" strike="noStrike">
              <a:solidFill>
                <a:srgbClr val="1161c4"/>
              </a:solidFill>
              <a:latin typeface="Arial"/>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p:txBody>
      </p:sp>
      <p:sp>
        <p:nvSpPr>
          <p:cNvPr id="249" name="TextBox 4"/>
          <p:cNvSpPr/>
          <p:nvPr/>
        </p:nvSpPr>
        <p:spPr>
          <a:xfrm>
            <a:off x="1228680" y="2716200"/>
            <a:ext cx="10863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Οι χώρες κερδίζουν συναλλαγματικά αποθέματα με διάφορους τρόπους, που σχετίζονται κυρίως με το διεθνές εμπόριο, τις επενδύσεις και τις χρηματοπιστωτικές συναλλαγές. Ακολουθούν μερικοί από τους κυριότερους τρόπους:</a:t>
            </a: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Arial"/>
              </a:rPr>
              <a:t>Εξαγωγέ</a:t>
            </a:r>
            <a:r>
              <a:rPr b="0" lang="el-GR" sz="1800" spc="-1" strike="noStrike">
                <a:solidFill>
                  <a:srgbClr val="1161c4"/>
                </a:solidFill>
                <a:latin typeface="Arial"/>
              </a:rPr>
              <a:t>ς: Όταν μια χώρα εξάγει αγαθά και υπηρεσίες, λαμβάνει πληρωμή σε ξένα νομίσματα. Τα έσοδα αυτά αποτελούν πρωταρχική πηγή συναλλαγματικών διαθεσίμων. </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Arial"/>
              </a:rPr>
              <a:t>Άμεσες ξένες επενδύσεις (ΑΞΕ): </a:t>
            </a:r>
            <a:r>
              <a:rPr b="0" lang="el-GR" sz="1800" spc="-1" strike="noStrike">
                <a:solidFill>
                  <a:srgbClr val="1161c4"/>
                </a:solidFill>
                <a:latin typeface="Arial"/>
              </a:rPr>
              <a:t>Όταν ξένες οντότητες επενδύουν σε μια χώρα, μπορούν να εισάγουν κεφάλαια σε ξένο νόμισμα. Αυτό μπορεί να αυξήσει τα συναλλαγματικά αποθέματα της χώρας, ιδίως εάν οι </a:t>
            </a:r>
            <a:r>
              <a:rPr b="1" lang="el-GR" sz="1800" spc="-1" strike="noStrike">
                <a:solidFill>
                  <a:srgbClr val="1161c4"/>
                </a:solidFill>
                <a:latin typeface="Arial"/>
              </a:rPr>
              <a:t>επενδύσεις είναι σημαντικές και διαρκείς.</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Arial"/>
              </a:rPr>
              <a:t>Επενδύσεις χαρτοφυλακίου</a:t>
            </a:r>
            <a:r>
              <a:rPr b="0" lang="el-GR" sz="1800" spc="-1" strike="noStrike">
                <a:solidFill>
                  <a:srgbClr val="1161c4"/>
                </a:solidFill>
                <a:latin typeface="Arial"/>
              </a:rPr>
              <a:t>: Παρόμοια με τις ΑΞΕ, οι επενδύσεις χαρτοφυλακίου αναφέρονται σε επενδύσεις σε χρηματοοικονομικά περιουσιακά στοιχεία, όπως μετοχές και ομόλογα, που πραγματοποιούνται από ξένους επενδυτές. Η εισροή ξένου συναλλάγματος από τέτοιες επενδύσεις συμβάλλει στη δημιουργία αποθεματικών</a:t>
            </a:r>
            <a:endParaRPr b="0" lang="en-US" sz="18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2"/>
          <p:cNvSpPr/>
          <p:nvPr/>
        </p:nvSpPr>
        <p:spPr>
          <a:xfrm>
            <a:off x="1596960" y="150840"/>
            <a:ext cx="10453680" cy="69519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Εμβάσματα</a:t>
            </a:r>
            <a:r>
              <a:rPr b="0" lang="el-GR" sz="1800" spc="-1" strike="noStrike">
                <a:solidFill>
                  <a:srgbClr val="1161c4"/>
                </a:solidFill>
                <a:latin typeface="Arial"/>
              </a:rPr>
              <a:t>: Οι εργαζόμενοι που ζουν στο εξωτερικό συχνά στέλνουν χρήματα πίσω στις χώρες καταγωγής τους. Αυτά τα εμβάσματα μπορούν να ενισχύσουν τα συναλλαγματικά αποθέματα μιας χώρας όταν μετατρέπονται στο τοπικό νόμισμα.</a:t>
            </a:r>
            <a:endParaRPr b="0" lang="en-US" sz="1800" spc="-1" strike="noStrike">
              <a:solidFill>
                <a:srgbClr val="1161c4"/>
              </a:solidFill>
              <a:latin typeface="Arial"/>
            </a:endParaRPr>
          </a:p>
          <a:p>
            <a:pPr marL="285840" indent="-28584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Διεθνή δάνεια και βοήθεια</a:t>
            </a:r>
            <a:r>
              <a:rPr b="0" lang="el-GR" sz="1800" spc="-1" strike="noStrike">
                <a:solidFill>
                  <a:srgbClr val="1161c4"/>
                </a:solidFill>
                <a:latin typeface="Arial"/>
              </a:rPr>
              <a:t>: Οι χώρες μπορεί να λαμβάνουν δάνεια ή βοήθεια σε ξένο νόμισμα από διεθνείς οργανισμούς (όπως το ΔΝΤ ή η Παγκόσμια Τράπεζα) ή από άλλες χώρες. Τα κεφάλαια αυτά μπορούν να προστεθούν στα συναλλαγματικά αποθέματα μιας χώρας.</a:t>
            </a: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Τουρισμός</a:t>
            </a:r>
            <a:r>
              <a:rPr b="0" lang="el-GR" sz="1800" spc="-1" strike="noStrike">
                <a:solidFill>
                  <a:srgbClr val="1161c4"/>
                </a:solidFill>
                <a:latin typeface="Arial"/>
              </a:rPr>
              <a:t>: Οι χώρες που προσελκύουν ξένους τουρίστες κερδίζουν συνάλλαγμα μέσω των δαπανών για ξενοδοχεία, υπηρεσίες και αγαθά. Αυτή η εισροή χρημάτων συμβάλλει στα συναλλαγματικά αποθέματα.</a:t>
            </a:r>
            <a:endParaRPr b="0" lang="en-US" sz="1800" spc="-1" strike="noStrike">
              <a:solidFill>
                <a:srgbClr val="1161c4"/>
              </a:solidFill>
              <a:latin typeface="Arial"/>
            </a:endParaRPr>
          </a:p>
          <a:p>
            <a:pPr marL="285840" indent="-28584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Νομισματική κερδοσκοπία και παρεμβάσεις στην αγορά</a:t>
            </a:r>
            <a:r>
              <a:rPr b="0" lang="el-GR" sz="1800" spc="-1" strike="noStrike">
                <a:solidFill>
                  <a:srgbClr val="1161c4"/>
                </a:solidFill>
                <a:latin typeface="Arial"/>
              </a:rPr>
              <a:t>: Οι κεντρικές τράπεζες μπορούν επίσης να συσσωρεύουν συναλλαγματικά αποθέματα αγοράζοντας και πουλώντας νομίσματα στις αγορές συναλλάγματος, συχνά στο πλαίσιο των στρατηγικών νομισματικής πολιτικής τους για τη σταθεροποίηση του δικού τους νομίσματος.</a:t>
            </a:r>
            <a:endParaRPr b="0" lang="en-US" sz="1800" spc="-1" strike="noStrike">
              <a:solidFill>
                <a:srgbClr val="1161c4"/>
              </a:solidFill>
              <a:latin typeface="Arial"/>
            </a:endParaRPr>
          </a:p>
          <a:p>
            <a:pPr marL="285840" indent="-28584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Διμερείς εμπορικές συμφωνίες και ανταλλαγές νομισμάτων</a:t>
            </a:r>
            <a:r>
              <a:rPr b="0" lang="el-GR" sz="1800" spc="-1" strike="noStrike">
                <a:solidFill>
                  <a:srgbClr val="1161c4"/>
                </a:solidFill>
                <a:latin typeface="Arial"/>
              </a:rPr>
              <a:t>: Ορισμένες χώρες συνάπτουν συμφωνίες μεταξύ τους για τη χρήση των αντίστοιχων νομισμάτων τους για το εμπόριο, γεγονός που μπορεί να ενισχύσει τα αποθεματικά τους από τα αμοιβαία εμπορικά οφέλη. Οι μέθοδοι αυτές συμβάλλουν στην ικανότητα μιας χώρας να διατηρεί ρευστότητα σε συνάλλαγμα, να σταθεροποιεί το νόμισμά της και να ανταποκρίνεται στις διεθνείς οικονομικές υποχρεώσεις της</a:t>
            </a: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marL="285840" indent="-285840" algn="just">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2"/>
          <p:cNvSpPr/>
          <p:nvPr/>
        </p:nvSpPr>
        <p:spPr>
          <a:xfrm>
            <a:off x="1582560" y="150840"/>
            <a:ext cx="1041408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2. </a:t>
            </a:r>
            <a:r>
              <a:rPr b="1" lang="el-GR" sz="2400" spc="-1" strike="noStrike">
                <a:solidFill>
                  <a:srgbClr val="1161c4"/>
                </a:solidFill>
                <a:latin typeface="Arial"/>
              </a:rPr>
              <a:t>Κύρια στοιχεία των συναλλαγματικών αποθεμάτων:</a:t>
            </a:r>
            <a:endParaRPr b="0" lang="en-US" sz="24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Arial"/>
            </a:endParaRPr>
          </a:p>
          <a:p>
            <a:pPr>
              <a:buClr>
                <a:srgbClr val="1161c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1161c4"/>
                </a:solidFill>
                <a:latin typeface="Arial"/>
              </a:rPr>
              <a:t>Ξένο συνάλλαγμα</a:t>
            </a:r>
            <a:r>
              <a:rPr b="0" lang="el-GR" sz="2400" spc="-1" strike="noStrike">
                <a:solidFill>
                  <a:srgbClr val="1161c4"/>
                </a:solidFill>
                <a:latin typeface="Arial"/>
              </a:rPr>
              <a:t>: Κυρίως δολάρια ΗΠΑ, ευρώ, γιεν Ιαπωνίας και στερλίνα Βρετανίας.</a:t>
            </a:r>
            <a:endParaRPr b="0" lang="en-US" sz="24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Arial"/>
            </a:endParaRPr>
          </a:p>
          <a:p>
            <a:pPr>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1161c4"/>
                </a:solidFill>
                <a:latin typeface="Arial"/>
              </a:rPr>
              <a:t>Χρυσός</a:t>
            </a:r>
            <a:r>
              <a:rPr b="0" lang="el-GR" sz="2400" spc="-1" strike="noStrike">
                <a:solidFill>
                  <a:srgbClr val="1161c4"/>
                </a:solidFill>
                <a:latin typeface="Arial"/>
              </a:rPr>
              <a:t>: Αποτελεί παραδοσιακό αποθεματικό στοιχείο και συχνά χρησιμοποιείται για την ασφάλεια των αποθεμάτων.</a:t>
            </a:r>
            <a:endParaRPr b="0" lang="en-US" sz="2400" spc="-1" strike="noStrike">
              <a:solidFill>
                <a:srgbClr val="1161c4"/>
              </a:solidFill>
              <a:latin typeface="Arial"/>
            </a:endParaRPr>
          </a:p>
          <a:p>
            <a:pPr>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Arial"/>
            </a:endParaRPr>
          </a:p>
          <a:p>
            <a:pPr>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1161c4"/>
                </a:solidFill>
                <a:latin typeface="Arial"/>
              </a:rPr>
              <a:t>Ειδικά Τραβηχτικά Δικαιώματα (SDRs): </a:t>
            </a:r>
            <a:r>
              <a:rPr b="0" lang="el-GR" sz="2400" spc="-1" strike="noStrike">
                <a:solidFill>
                  <a:srgbClr val="1161c4"/>
                </a:solidFill>
                <a:latin typeface="Arial"/>
              </a:rPr>
              <a:t>Μια μορφή λογιστικού διεθνούς νομίσματος που εκδίδεται από το Διεθνές Νομισματικό Ταμείο (ΔΝΤ).</a:t>
            </a:r>
            <a:endParaRPr b="0" lang="en-US" sz="2400" spc="-1" strike="noStrike">
              <a:solidFill>
                <a:srgbClr val="1161c4"/>
              </a:solidFill>
              <a:latin typeface="Arial"/>
            </a:endParaRPr>
          </a:p>
          <a:p>
            <a:pPr>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Arial"/>
            </a:endParaRPr>
          </a:p>
          <a:p>
            <a:pPr>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1161c4"/>
                </a:solidFill>
                <a:latin typeface="Arial"/>
              </a:rPr>
              <a:t>Θέσεις στο ΔΝΤ</a:t>
            </a:r>
            <a:r>
              <a:rPr b="0" lang="el-GR" sz="2400" spc="-1" strike="noStrike">
                <a:solidFill>
                  <a:srgbClr val="1161c4"/>
                </a:solidFill>
                <a:latin typeface="Arial"/>
              </a:rPr>
              <a:t>: Κεφάλαια που μια χώρα μπορεί να χρησιμοποιήσει από το ΔΝΤ σε περίπτωση ανάγκης.</a:t>
            </a:r>
            <a:endParaRPr b="0" lang="en-US" sz="24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2"/>
          <p:cNvSpPr/>
          <p:nvPr/>
        </p:nvSpPr>
        <p:spPr>
          <a:xfrm>
            <a:off x="1623960" y="136440"/>
            <a:ext cx="10468080" cy="116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3. Σκοπός και σημασία:</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3.1 Σταθερότητα του νομίσματος</a:t>
            </a:r>
            <a:r>
              <a:rPr b="0" lang="el-GR" sz="1800" spc="-1" strike="noStrike">
                <a:solidFill>
                  <a:srgbClr val="1161c4"/>
                </a:solidFill>
                <a:latin typeface="Arial"/>
              </a:rPr>
              <a:t>:</a:t>
            </a:r>
            <a:endParaRPr b="0" lang="en-US" sz="1800" spc="-1" strike="noStrike">
              <a:solidFill>
                <a:srgbClr val="1161c4"/>
              </a:solidFill>
              <a:latin typeface="Arial"/>
            </a:endParaRPr>
          </a:p>
          <a:p>
            <a:pPr>
              <a:buClr>
                <a:srgbClr val="1161c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Οι κεντρικές τράπεζες χρησιμοποιούν συναλλαγματικά αποθέματα για να επεμβαίνουν στις αγορές συναλλάγματος.</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Αποτρέπουν απότομες διακυμάνσεις της συναλλαγματικής ισοτιμίας.</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Παράδειγμα: Αν το εθνικό νόμισμα υποτιμάται υπερβολικά, η κεντρική τράπεζα μπορεί να πωλήσει ξένο συνάλλαγμα για να αυξήσει τη ζήτηση για το εθνικό νόμισμα.</a:t>
            </a:r>
            <a:endParaRPr b="0" lang="en-US" sz="1800" spc="-1" strike="noStrike">
              <a:solidFill>
                <a:srgbClr val="1161c4"/>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3.2 Διαχείριση κρίσεων</a:t>
            </a:r>
            <a:r>
              <a:rPr b="0" lang="el-GR" sz="1800" spc="-1" strike="noStrike">
                <a:solidFill>
                  <a:srgbClr val="1161c4"/>
                </a:solidFill>
                <a:latin typeface="Arial"/>
              </a:rPr>
              <a:t>:</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Σε περιπτώσεις οικονομικής αστάθειας ή ξαφνικής εκροής κεφαλαίων, τα αποθέματα παρέχουν ρευστότητα για να αντιμετωπιστούν οι πιέσεις.</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Παράδειγμα: Κατά την κρίση του 1997-1998 στην Ασία, πολλές χώρες εξάντλησαν τα αποθέματά τους για να στηρίξουν τα νομίσματά τους.</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3.3 Χρηματοδότηση εξωτερικού εμπορίου και χρέους</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Οι χώρες χρησιμοποιούν τα αποθέματα για να καλύψουν εισαγωγές κρίσιμων αγαθών (π.χ. ενέργεια, τρόφιμα) σε περιόδους κρίσης.</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Παρέχουν ασφάλεια για την αποπληρωμή εξωτερικού χρέους, ενισχύοντας την εμπιστοσύνη των επενδυτών και των δανειστών.</a:t>
            </a:r>
            <a:endParaRPr b="0" lang="en-US" sz="1800" spc="-1" strike="noStrike">
              <a:solidFill>
                <a:srgbClr val="1161c4"/>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2"/>
          <p:cNvSpPr/>
          <p:nvPr/>
        </p:nvSpPr>
        <p:spPr>
          <a:xfrm>
            <a:off x="1419120" y="61920"/>
            <a:ext cx="10773000" cy="61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3.4 </a:t>
            </a:r>
            <a:r>
              <a:rPr b="1" lang="el-GR" sz="2000" spc="-1" strike="noStrike">
                <a:solidFill>
                  <a:srgbClr val="1161c4"/>
                </a:solidFill>
                <a:latin typeface="Arial"/>
              </a:rPr>
              <a:t>Ενίσχυση εμπιστοσύνης στις αγορές</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Οι αγορές παρακολουθούν στενά το μέγεθος των αποθεμάτων μιας χώρας.</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Μεγάλα αποθέματα σηματοδοτούν οικονομική ισχύ και μειώνουν το ρίσκο επενδύσεων στη χώρα.</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Αντίθετα, χαμηλά αποθέματα εντείνουν τις ανησυχίες για πιθανές οικονομικές κρίσεις.</a:t>
            </a:r>
            <a:endParaRPr b="0" lang="en-US" sz="20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3.5 </a:t>
            </a:r>
            <a:r>
              <a:rPr b="1" lang="el-GR" sz="2000" spc="-1" strike="noStrike">
                <a:solidFill>
                  <a:srgbClr val="1161c4"/>
                </a:solidFill>
                <a:latin typeface="Arial"/>
              </a:rPr>
              <a:t>Στήριξη της νομισματικής πολιτικ</a:t>
            </a:r>
            <a:r>
              <a:rPr b="0" lang="el-GR" sz="2000" spc="-1" strike="noStrike">
                <a:solidFill>
                  <a:srgbClr val="1161c4"/>
                </a:solidFill>
                <a:latin typeface="Arial"/>
              </a:rPr>
              <a:t>ής</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Τα αποθέματα χρησιμοποιούνται για την κάλυψη αναγκών χρηματοδότησης ή την εξισορρόπηση του ισοζυγίου πληρωμών.</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Βοηθούν τις χώρες να αποφύγουν τη λήψη βραχυπρόθεσμων δανείων σε ξένο συνάλλαγμα, που μπορεί να είναι πιο ακριβά ή επικίνδυνα.</a:t>
            </a:r>
            <a:endParaRPr b="0" lang="en-US" sz="20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3.6 </a:t>
            </a:r>
            <a:r>
              <a:rPr b="1" lang="el-GR" sz="2000" spc="-1" strike="noStrike">
                <a:solidFill>
                  <a:srgbClr val="1161c4"/>
                </a:solidFill>
                <a:latin typeface="Arial"/>
              </a:rPr>
              <a:t>Διαφοροποίηση και επενδυτικά οφέλη</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Μέρος των αποθεμάτων επενδύεται σε χαμηλού ρίσκου χρηματοοικονομικά εργαλεία (π.χ. κρατικά ομόλογα).</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Αυτή η πρακτική δημιουργεί επιπλέον έσοδα για τη χώρα.</a:t>
            </a:r>
            <a:endParaRPr b="0" lang="en-US" sz="2000" spc="-1" strike="noStrike">
              <a:solidFill>
                <a:srgbClr val="1161c4"/>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3.7 </a:t>
            </a:r>
            <a:r>
              <a:rPr b="1" lang="el-GR" sz="2000" spc="-1" strike="noStrike">
                <a:solidFill>
                  <a:srgbClr val="1161c4"/>
                </a:solidFill>
                <a:latin typeface="Arial"/>
              </a:rPr>
              <a:t>Στρατηγική σημασία</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Εξασφαλίζουν την εθνική ασφάλεια σε περιπτώσεις γεωπολιτικών εντάσεων ή κυρώσεων.</a:t>
            </a:r>
            <a:endParaRPr b="0" lang="en-US" sz="2000" spc="-1" strike="noStrike">
              <a:solidFill>
                <a:srgbClr val="1161c4"/>
              </a:solidFill>
              <a:latin typeface="Arial"/>
            </a:endParaRPr>
          </a:p>
          <a:p>
            <a:pPr lvl="1" marL="743040" indent="-285840" algn="just">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000" spc="-1" strike="noStrike">
                <a:solidFill>
                  <a:srgbClr val="1161c4"/>
                </a:solidFill>
                <a:latin typeface="Arial"/>
              </a:rPr>
              <a:t>Παράδειγμα: Χώρες όπως η Ρωσία και η Κίνα έχουν αυξήσει τα αποθέματα χρυσού για να μειώσουν την εξάρτησή τους από το δολάριο.</a:t>
            </a:r>
            <a:endParaRPr b="0" lang="en-US" sz="2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2"/>
          <p:cNvSpPr/>
          <p:nvPr/>
        </p:nvSpPr>
        <p:spPr>
          <a:xfrm>
            <a:off x="1528920" y="395280"/>
            <a:ext cx="10563120" cy="615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Arial"/>
              </a:rPr>
              <a:t>4</a:t>
            </a:r>
            <a:r>
              <a:rPr b="0" lang="el-GR" sz="1800" spc="-1" strike="noStrike">
                <a:solidFill>
                  <a:srgbClr val="1161c4"/>
                </a:solidFill>
                <a:latin typeface="Arial"/>
              </a:rPr>
              <a:t>. </a:t>
            </a:r>
            <a:r>
              <a:rPr b="1" lang="el-GR" sz="1800" spc="-1" strike="noStrike">
                <a:solidFill>
                  <a:srgbClr val="1161c4"/>
                </a:solidFill>
                <a:latin typeface="Arial"/>
              </a:rPr>
              <a:t>Κύριοι τρόποι επένδυσης των συναλλαγματικών αποθεμάτων</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4.1 Χρηματοπιστωτικά εργαλεία με χαμηλό ρίσκο</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Ομόλογα κυβερνήσεων (Treasury Bonds):</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Οι κεντρικές τράπεζες επενδύουν σε κρατικά ομόλογα από χώρες με υψηλή πιστοληπτική αξιολόγηση, όπως τα αμερικανικά ομόλογα (U.S. Treasuries), τα ομόλογα της Ε.Ε. ή άλλων ισχυρών οικονομικά κρατών.</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Αυτά τα ομόλογα προσφέρουν χαμηλό κίνδυνο και υψηλή ρευστότητα, κάνοντάς τα ελκυστικά για ασφαλείς επενδύσεις.</a:t>
            </a:r>
            <a:endParaRPr b="0" lang="en-US" sz="1800" spc="-1" strike="noStrike">
              <a:solidFill>
                <a:srgbClr val="1161c4"/>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Arial"/>
              </a:rPr>
              <a:t>4.2 </a:t>
            </a:r>
            <a:r>
              <a:rPr b="1" lang="el-GR" sz="1800" spc="-1" strike="noStrike">
                <a:solidFill>
                  <a:srgbClr val="1161c4"/>
                </a:solidFill>
                <a:latin typeface="Arial"/>
              </a:rPr>
              <a:t>Καταθέσεις σε κεντρικές τράπεζες άλλων χωρών</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Όπως της Ευρωπαϊκής Κεντρικής Τράπεζας ή της Federal Reserve των ΗΠΑ, ως έναν τρόπο να διατηρήσουν ρευστότητα και ασφάλεια.</a:t>
            </a:r>
            <a:endParaRPr b="0" lang="en-US" sz="1800" spc="-1" strike="noStrike">
              <a:solidFill>
                <a:srgbClr val="1161c4"/>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Arial"/>
              </a:rPr>
              <a:t>4.3 Χρυσός</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Πολλές χώρες κρατούν ένα μέρος των συναλλαγματικών τους αποθεμάτων σε χρυσό, καθώς θεωρείται ασφαλές καταφύγιο σε περιόδους αβεβαιότητας και οικονομικής αναταραχής.</a:t>
            </a:r>
            <a:endParaRPr b="0" lang="en-US" sz="1800" spc="-1" strike="noStrike">
              <a:solidFill>
                <a:srgbClr val="1161c4"/>
              </a:solidFill>
              <a:latin typeface="Arial"/>
            </a:endParaRPr>
          </a:p>
          <a:p>
            <a:pPr lvl="1" marL="743040" indent="-285840">
              <a:lnSpc>
                <a:spcPct val="100000"/>
              </a:lnSpc>
              <a:buClr>
                <a:srgbClr val="1161c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Arial"/>
              </a:rPr>
              <a:t>Ο χρυσός δεν υπόκειται συνήθως σε μεγάλο κίνδυνο απομείωσης της αξίας που μπορεί να πλήξει τα νομίσματα, γι’ αυτό και είναι προτιμώμενος τρόπος αποθήκευσης αξίας.</a:t>
            </a:r>
            <a:endParaRPr b="0" lang="en-US" sz="1800" spc="-1" strike="noStrike">
              <a:solidFill>
                <a:srgbClr val="1161c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gold_chart"/>
          <p:cNvPicPr/>
          <p:nvPr/>
        </p:nvPicPr>
        <p:blipFill>
          <a:blip r:embed="rId1"/>
          <a:stretch/>
        </p:blipFill>
        <p:spPr>
          <a:xfrm>
            <a:off x="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3T12:29:07Z</dcterms:created>
  <dc:creator>Charalampos Kotios</dc:creator>
  <dc:description/>
  <dc:language>en-US</dc:language>
  <cp:lastModifiedBy>Charalampos Kotios</cp:lastModifiedBy>
  <dcterms:modified xsi:type="dcterms:W3CDTF">2024-12-20T23:05:20Z</dcterms:modified>
  <cp:revision>61</cp:revision>
  <dc:subject/>
  <dc:title>«Το Οικονομικό Σύστημα - Οικονομικά και Δίκαιο της Ρυθμιστικής Πολιτικής του Κράτους»</dc:title>
</cp:coreProperties>
</file>